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C90-2BFA-4FA2-B660-F521B6C1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6EF-31DC-402D-8B0F-D3C33E0D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7F30-2858-42FA-9133-A8838FAA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96C-AF8F-4006-97E6-0DFAFAFD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EA92-7862-424E-A96D-63355E49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3BCF-B8E5-415E-AD18-3C7C6860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584-D2BB-4C70-9BE3-8615090E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95CE-C5C4-4ECB-99C2-E5EAD32A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E251-084F-43BD-9DF6-9C7116C9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78F-0596-4500-88FF-4BD61AFC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BE0-DFB0-44C2-9FB9-646DBD2F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125-08EF-413B-8D4C-B56BD415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13E7-CC97-45F8-9425-5E3B01B9C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Nom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Classe: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re de votre his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Situation init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Élément perturba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Péripé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Péripéties (sui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Péripéties (sui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Dénou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Situation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4:37:03Z</dcterms:created>
  <dc:creator>Paulette Hachez</dc:creator>
  <dc:description/>
  <dc:language>en-US</dc:language>
  <cp:lastModifiedBy>Paulette Hachez</cp:lastModifiedBy>
  <dcterms:modified xsi:type="dcterms:W3CDTF">2007-11-21T14:41:07Z</dcterms:modified>
  <cp:revision>2</cp:revision>
  <dc:subject/>
  <dc:title>Nom :</dc:title>
</cp:coreProperties>
</file>